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7.wmf" ContentType="image/x-wmf"/>
  <Override PartName="/ppt/media/image7.wmf" ContentType="image/x-wmf"/>
  <Override PartName="/ppt/media/image12.png" ContentType="image/png"/>
  <Override PartName="/ppt/media/image9.jpeg" ContentType="image/jpeg"/>
  <Override PartName="/ppt/media/image11.png" ContentType="image/png"/>
  <Override PartName="/ppt/media/image6.wmf" ContentType="image/x-wmf"/>
  <Override PartName="/ppt/media/image28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wmf" ContentType="image/x-wmf"/>
  <Override PartName="/ppt/media/image19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media/image25.png" ContentType="image/png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9354-BBBF-40AD-BDBB-0D0F4F81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0AD-D831-4776-A011-BBCF730EF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oints are variations on the journalist’s basic questions: who, what, when, where, how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7BDA-3B8D-4FD0-BF8B-4F7A6C17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2EAF-4289-47B2-8A99-1CF5AE32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DEFA-4519-4A30-976B-5CAF1F8F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5DC4-42D2-4824-A667-CA095DE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C4A-313A-4ABD-AE02-7300B583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2E5-489E-4F11-AE68-ED4FD833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8B42-0DD0-483C-A356-CA6BDE2E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2C0-4711-463B-A6B2-9AC8BAA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CA2-3FFE-49C1-8A97-B1383DB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5FD6-F829-46B1-A6FE-E06692DF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7B3F-0E92-42EB-9FC4-917028F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8AFF-2F56-48B7-A0D7-6DE0A33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3C9D-CDB8-48DE-B4F8-C619C61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508-EA7E-48B3-9ACC-68BFA60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C117-E365-46F1-9E9D-6A4545C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E7BD-9FD9-4B46-9577-9C731496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403-E063-48BC-B1DD-CA83C5F8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4D9E-7AAB-470B-944E-24E9FF77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E61F-FB53-455B-8ADD-F44DE2BE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F6D5-A8E9-414C-9C3F-AEBCE8C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5288-515D-48D4-A626-A3EF23EF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3466-3C1D-4EDF-BB47-6BDFDDCB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FC3C-37D8-48C7-B901-19C02DD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F166-5FED-4F19-9095-F20BD4D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69E-4FA3-4157-8BF4-F9ED65173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334b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334b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334b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F117-391E-4F62-885E-C9586AD0390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Ali%20A%20yassinresearch%20paper.ppt" TargetMode="External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لية كتابة اطروحة الماجستير او الدكتوراه و البحث الع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استاذ المساعد الدكتور علي عادل يا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جامعة الب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كلية التربية للعلوم الصر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قسم علوم الحاس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22-11-2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جزاء العمل المقتر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عن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نبذة مخت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مقدمة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بيان المشك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غرض / الأهداف / الأساس المنطقي / أسئلة البح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اعمال الساب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05520" y="27428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منهجية العمل المقتر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همية وتأثير العمل المقترح و النتائج المتو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مراجعة الفص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خطة ال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فهرس و المراج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5440" y="33480"/>
            <a:ext cx="1798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إنشاء عنوان العم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 rtl="1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توجيه القراء إلى موضوع البحث الخاص ب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حدد نوع الدراسة التي ستجريها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 u="sng">
                <a:solidFill>
                  <a:srgbClr val="ffffff"/>
                </a:solidFill>
                <a:uFillTx/>
                <a:latin typeface="Arial"/>
              </a:rPr>
              <a:t>الامثلة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دور النفط في الاقتصاد العراقي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أهمية زراعة النخيل في مدينة البصر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مشاكل امنية المعلومات في مجهزات الخدمة السحابي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j0407420"/>
          <p:cNvPicPr/>
          <p:nvPr/>
        </p:nvPicPr>
        <p:blipFill>
          <a:blip r:embed="rId1"/>
          <a:stretch/>
        </p:blipFill>
        <p:spPr>
          <a:xfrm>
            <a:off x="0" y="17640"/>
            <a:ext cx="146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لخلاص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spcAft>
                <a:spcPts val="15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قدم عرضا موجزا للعمل المقترح (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 كلمة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spcAft>
                <a:spcPts val="15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 تلخيص العناصر الهامة (مقدمة، بيان المشكلة، خلفية الدراسة، أسئلة البحث أو الفرضيات، والأساليب والإجراءات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2895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مقدمة / خلفية البحث المقتر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نشاء مقدمة عن الموضوع المقترح بالاعتماد على التجارب البحثية السابقة من بحوث و التجارب العم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وصف الأسس العريضة لدراستك - توفير خلفية كافية للقرا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حدد النطاق العام لمشروع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قدم نظرة عامة على ابرز الفصول التي ستظهر في اقتراح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 (اختيار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إشراك القرا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0" y="5029200"/>
            <a:ext cx="2581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5400" spc="-1" strike="noStrike">
                <a:solidFill>
                  <a:srgbClr val="ffffff"/>
                </a:solidFill>
                <a:latin typeface="Arial"/>
              </a:rPr>
              <a:t>عرض المشكل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spcAft>
                <a:spcPts val="11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أجب على السؤال: "ما هي الفجوة التي يجب سدها؟" و / أو "ما هي المشكلة التي تحتاج إلى حل؟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spcAft>
                <a:spcPts val="11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أذكر المشكلة بوضوح في وقت مبكر من هذا الفص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spcAft>
                <a:spcPts val="11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حدد المتغيرات  والظروف التي تتناولها في ذكر المشك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spcAft>
                <a:spcPts val="11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فكر في تأطير المشكلة كقض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9" descr="j0404263"/>
          <p:cNvPicPr/>
          <p:nvPr/>
        </p:nvPicPr>
        <p:blipFill>
          <a:blip r:embed="rId1"/>
          <a:stretch/>
        </p:blipFill>
        <p:spPr>
          <a:xfrm>
            <a:off x="228600" y="4191120"/>
            <a:ext cx="1685880" cy="1554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848720" y="0"/>
            <a:ext cx="12952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الغرض / الأهداف / الأساس المنطقي / أسئلة البح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شرح أهداف والغايات البحثية للدراس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عرض المساهمات الأصلية من دراست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تقديم وصف أكثر تفصيلا للنقاط الموجزة في المقدم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تضمين الأساس المنطقي للدراس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كن واضحا حول ما لن تتناوله دراست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772400" y="0"/>
            <a:ext cx="1371600" cy="87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240" y="5381640"/>
            <a:ext cx="3105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الغرض / الأهداف / الأساس المنطقي / أسئلة البح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صف أسئلة البحث و / أو فرضيات الدراس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تضمين قسم فرعي يحدد مصطلحات مهم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قيود الدولة على البحث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توفير الأساس المنطقي للموضوعات المحددة للدراس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745400" y="50760"/>
            <a:ext cx="1424160" cy="906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04920" y="5238720"/>
            <a:ext cx="3105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الاعمال السابق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j0409270"/>
          <p:cNvPicPr/>
          <p:nvPr/>
        </p:nvPicPr>
        <p:blipFill>
          <a:blip r:embed="rId1"/>
          <a:stretch/>
        </p:blipFill>
        <p:spPr>
          <a:xfrm>
            <a:off x="228600" y="2895480"/>
            <a:ext cx="2330280" cy="3505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23619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كيف كتب الباحثين الآخرون حول الموضوع الخاص ب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 مجموعة النظريات المستخدمة لتحليل المواد أو البي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كيف يربط علماء او باحثين آخرون موضوعاتهم البحثية المحددة بقضايا أو أسئلة أو ممارسات أكبر داخل هذا المجا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أفضل المنهجيات وتقنيات البحث لموضوعك المقتر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57200" y="1981080"/>
            <a:ext cx="8458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كتابة الاعمال السابقة تسمح لك بفهم النقاط التالية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الاعمال السابقة: الوظائف البلاغية المه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يضع الدراسة الحالية ضمن محادثة علمية على نطاق أوس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يوضح تفرد وأهمية والحاجة الماسة لمشروع البحث المقترح بشكل تطبيقي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يبرر الخيارات المنهجي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إظهار الإلمام بالموضوع والنهج المناسبة لدراست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j0281004"/>
          <p:cNvPicPr/>
          <p:nvPr/>
        </p:nvPicPr>
        <p:blipFill>
          <a:blip r:embed="rId1"/>
          <a:stretch/>
        </p:blipFill>
        <p:spPr>
          <a:xfrm>
            <a:off x="20520" y="-76320"/>
            <a:ext cx="1608120" cy="129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924680" y="0"/>
            <a:ext cx="12193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نصائح حول صياغة الاعمال الساب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تصنيف الاعمال السابقة في مجموعات مواضيع يمكن التعرف علي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تحديد الجزء المهم من الاعمال السابقة التي هي متعلقة بصلب العمل المقتر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تجنب "يقول سمي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يقول جون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مراجعات الاعمال الساب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تجنب تضمين جميع الدراسات حول هذا الموضو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تجنب الجدل، والثناء، واللو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0" y="-31680"/>
            <a:ext cx="1371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800" spc="-1" strike="noStrike">
                <a:solidFill>
                  <a:srgbClr val="ffffff"/>
                </a:solidFill>
                <a:latin typeface="Arial"/>
              </a:rPr>
              <a:t>الهدف من المحاضر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j0287002"/>
          <p:cNvPicPr/>
          <p:nvPr/>
        </p:nvPicPr>
        <p:blipFill>
          <a:blip r:embed="rId1"/>
          <a:stretch/>
        </p:blipFill>
        <p:spPr>
          <a:xfrm>
            <a:off x="380880" y="2438280"/>
            <a:ext cx="1298520" cy="22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662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تقديم الستراتيجيات الاساسية لسد الفراغ بين مرحلة الكورسات و مرحلة الكت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طلبة الدراسات العلي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لمساعدة لطلبة الدراسات العليا لفهم الحالة البلاغية لمقترح الأطروحة والعناصر المشتركة لهذه المقترح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إدخال المبادئ البلاغية والنحوية العملية لكتابة مقترحات فعالة ضمن مفهوم اختصاص الباحث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لتزويد الطلاب بمجموعة من النصائح لصياغة وتنقيح اجزاء العمل المقترح بشكل نسخة منقح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656480" y="23760"/>
            <a:ext cx="14875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تابة فصل الاعمال السابقة: مفتاح الكتابة الرئيس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5867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ندما تصل الى مرحلة جيدة من قراءة الاعمال السابقة بحيث بالإمكان الوصول الى النتائج التي وصلوا لها او فهم الاساس النظري للعمل هنا سوف يتم التركيز على النقاط الايجابية و السلبية التي تكون محور مقارنة مع عملكم المقتر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عد جهد القراءة العميق تستطيع تتوص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لماذا يَجِبُ أَنْ نَدْرسَ هذا موضوعِ البحثِ / مشكلة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اهي المساهمات الفعالة للاعمال السابقة التي جعلتها ندرجها ضمن هذه الفق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477120" y="2514600"/>
            <a:ext cx="2342880" cy="2895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المنهجي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يعرض الأسلوب المنهجي الشامل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اذكر كيف يناسب هذا النهج التصميم العام للبحو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صف الطرق المحددة لجمع البيانا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اشرح كيف تنوي تحليل وتفسير النتائج (أي التحليل الإحصائي والإطار النظري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إذا لزم الأمر، توفير الخلفية والأساس المنطقي للمنهجيات غير مألوفة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bs01143_"/>
          <p:cNvPicPr/>
          <p:nvPr/>
        </p:nvPicPr>
        <p:blipFill>
          <a:blip r:embed="rId1"/>
          <a:stretch/>
        </p:blipFill>
        <p:spPr>
          <a:xfrm>
            <a:off x="0" y="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نصائح حول صياغة المنهجي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قسم المنهجية إلى أقسام فرعي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في العلوم الفيزيائية، قد تشمل هذه الأقسام الموضوعات، والتصميم، والأجهزة، والأجهزة، والعملية، والتحليل، وما إلى 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في العلوم الاجتماعية، قد تشمل هذه الأقسام اختيار المشاركين، عملية المقابلة، وملامح، والإطار التحليلي، وأساليب التحليل النوعي، وما إلى 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في العلوم الإنسانية، قد تشمل هذه الأقسام البحوث العلمية، والأبحاث الأرشيفية، والتوجه النظري، وما إلى 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توقع واستباق المخاوف المنهجي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لمهتمين و المختصين بالموضوع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الاعتراف بالمشاكل الرئيس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تبرير النهج الخاص بك عن طريق إظهار كيف تفوق الفوائد المشاكل المحتم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لأهمية / الانعكاس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j0197983"/>
          <p:cNvPicPr/>
          <p:nvPr/>
        </p:nvPicPr>
        <p:blipFill>
          <a:blip r:embed="rId1"/>
          <a:stretch/>
        </p:blipFill>
        <p:spPr>
          <a:xfrm>
            <a:off x="457200" y="2666880"/>
            <a:ext cx="1436760" cy="26892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ناقش المساهمة المنهجية والموضوعية و / أو النظرية التي قمت بها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ذكر الأهمية العملية و / أو النظرية للمشكلة و / أو أهداف دراست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اشرح فائدة الدراسة أو فوائدها لكل من العالم الخارجي ومجتمع البحث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نظرة عامة على الفصول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: مراجع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001000" cy="3465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20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نظرة عامة على الفصول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: مراجع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وتشمل بعض المقترحات وصفا طوليا لكل فصل (أي الفصل الثاني يستعرض المؤلفات ذات الصلة؛ ويناقش الفصل الثالث المنهجية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وتشمل المقترحات الأخرى المزيد من الاستعراضات المتعمقة ل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حتويات ال</a:t>
            </a: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فصول التي قد تشمل الفرضيات الرئيسية، والحجج، والأساليب، وما إلى ذلك لكل فصل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0" y="5124600"/>
            <a:ext cx="1981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2286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الجدول الزمني / خطة العم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2813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بعض الأشياء التي يجب وضعها ف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نظر 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 الاعتبا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ستشر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مشرف 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خاص ب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كن على بينة من التواريخ الهامة لتقديم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وقت مناقشات الاطاريح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لا تكون طموح بشكل مفر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تذكر أن الجدول الزمني المقترح يوضح وعيك بالعناصر المختلفة للدراسة (موافق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دائرة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هجرة والسفر، والتصميم، والاختبار، وطول التجارب؛ والتفاوض على الدخول إلى موقع الدراسة؛ وشراء المعدات اللازمة؛ والصياغة؛ وإعادة الصياغ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j0356181"/>
          <p:cNvPicPr/>
          <p:nvPr/>
        </p:nvPicPr>
        <p:blipFill>
          <a:blip r:embed="rId1"/>
          <a:stretch/>
        </p:blipFill>
        <p:spPr>
          <a:xfrm>
            <a:off x="7920" y="-30240"/>
            <a:ext cx="1744560" cy="182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27236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Arial"/>
              </a:rPr>
              <a:t>المراجع والملاح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تشمل مراجع العمل من النصوص الأساسية التي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م كتابة </a:t>
            </a: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الدراسة ومنهجية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عمل بالاعتماد عليها</a:t>
            </a: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قد تتضمن ملاحقك المخططات التجريبية، وخصائص اختبار المواضيع البشرية، وما إلى ذل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رتيب الملاحق و المراجع يعتمد على النسق الذي تفرضه الجامع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عتبارات نمط الكتابة: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لغة-</a:t>
            </a: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لهج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pe06872_"/>
          <p:cNvPicPr/>
          <p:nvPr/>
        </p:nvPicPr>
        <p:blipFill>
          <a:blip r:embed="rId1"/>
          <a:stretch/>
        </p:blipFill>
        <p:spPr>
          <a:xfrm>
            <a:off x="228600" y="2057400"/>
            <a:ext cx="1630440" cy="1765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51424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عند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نتقل الى مرحلة الكتابة النهائي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محاول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ستخدام </a:t>
            </a: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لهج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حدة </a:t>
            </a: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باستمرا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تجنب نغمة اعتذارية أو متعجرف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اعتبارات نمط الكتابة: ال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ماسك و التناس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الانتقال من المعلومات "القديمة" إلى المعلومات "الجديدة"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وضع أهم المعلومات في نهاية الجم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بدء الجمل مع عبارات قصيرة، يسهل فهمها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استخدام العبارات الانتقالية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620120" y="0"/>
            <a:ext cx="15238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لماذا تكتب أطروحة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بطاقة المرور للوسط الاكاديم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IQ" sz="2400" spc="-1" strike="noStrike">
                <a:solidFill>
                  <a:srgbClr val="ffffff"/>
                </a:solidFill>
                <a:latin typeface="Arial"/>
              </a:rPr>
              <a:t>كل ما عليك أن تعاني مثل فعلنا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في هذه العملية، سوف تتع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كيف تبح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Arial"/>
              </a:rPr>
              <a:t>كيف تكت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543800" y="0"/>
            <a:ext cx="16002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لوسائل البصري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دمج الخرائط والرسوم البيانية والرسوم التوضيحية وغيرها، كلما كان ذلك ممكنا، خصوصا لارتباطها بنتائج الدراس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j0415862"/>
          <p:cNvPicPr/>
          <p:nvPr/>
        </p:nvPicPr>
        <p:blipFill>
          <a:blip r:embed="rId1"/>
          <a:stretch/>
        </p:blipFill>
        <p:spPr>
          <a:xfrm>
            <a:off x="6248520" y="2666880"/>
            <a:ext cx="2035080" cy="161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5715000" y="495288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إدخال المحادثة الأكاديم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من الضروري نشر واحد أو أكثر من الأوراق التي ترتبط مع مجال البحث الخاص بك خلال الدكتوراه. أو فترة مس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620120" y="0"/>
            <a:ext cx="1523880" cy="969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43000" y="4191120"/>
            <a:ext cx="288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البحث العلمي : كيفية كتابة بحث ج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لماذا كتابة البحث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ما هو الهيكل الاساسي لكتابة البحث العل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الية نشر البح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كيف يمكن تحسين مهارتي بكتابة البحث العل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Arial"/>
              </a:rPr>
              <a:t>بعض النصائح المه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0440" y="5562720"/>
            <a:ext cx="293364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/>
          <a:srcRect l="13193" t="27173" r="75002" b="53071"/>
          <a:stretch/>
        </p:blipFill>
        <p:spPr>
          <a:xfrm>
            <a:off x="6324480" y="0"/>
            <a:ext cx="279396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971800" y="4267080"/>
            <a:ext cx="601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5400" spc="-1" strike="noStrike">
                <a:solidFill>
                  <a:srgbClr val="ffffff"/>
                </a:solidFill>
                <a:latin typeface="Andalus"/>
                <a:cs typeface="Andalus"/>
              </a:rPr>
              <a:t>لا تنسوا مليء استمارة التقيي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609588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3"/>
          <a:stretch/>
        </p:blipFill>
        <p:spPr>
          <a:xfrm>
            <a:off x="324000" y="2157480"/>
            <a:ext cx="22381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fffff"/>
                </a:solidFill>
                <a:latin typeface="Arial"/>
              </a:rPr>
              <a:t>كتابة مقترح: تطوير المشروع و التركيز عليه</a:t>
            </a:r>
            <a:r>
              <a:rPr b="0" lang="ar-IQ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ff"/>
                </a:solidFill>
                <a:latin typeface="Arial"/>
              </a:rPr>
              <a:t>حسنا، متى أبدأ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انا جدا متحم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متى أبدأ في كتابة أطروحت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 أشهر قبل نهاية الفترة المحددة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3836880" cy="284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346880" y="0"/>
            <a:ext cx="1797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Arial"/>
              </a:rPr>
              <a:t>كتابة مقترح أطروحة الماجستير / الدكتوراه: الصورة الكبير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j0199601"/>
          <p:cNvPicPr/>
          <p:nvPr/>
        </p:nvPicPr>
        <p:blipFill>
          <a:blip r:embed="rId1"/>
          <a:stretch/>
        </p:blipFill>
        <p:spPr>
          <a:xfrm>
            <a:off x="3429000" y="2057400"/>
            <a:ext cx="2208240" cy="1325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قتراحكم يصف خطة عملكم المقترح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ما كنت تنوي الدراسة (نطاق والمسائل البحثي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كيف تنوي دراسة الموضوع الخاص بك (المنهجي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لماذا هذا الموضوع يحتاج إلى دراسة (أهمي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عند إكمال هذا العمل (الجدول الزمني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ين يمكنك إجراء هذا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772400" y="0"/>
            <a:ext cx="13716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440" y="974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ial"/>
              </a:rPr>
              <a:t>كتابة مقترح أطروحة الماجستير / الدكتوراه: الصورة الكبير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ffffff"/>
                </a:solidFill>
                <a:uFillTx/>
                <a:latin typeface="Arial"/>
              </a:rPr>
              <a:t>الهد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عداد خطة  لمشروع بحث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عرض كيف يساهم مشروعك في تطوير حقل العمل الذي سوف تعمل علي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إثبات أن تفهم كيفية إجراء البحوث في مجالات محددة في إطار زمني مقبول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ffffff"/>
                </a:solidFill>
                <a:uFillTx/>
                <a:latin typeface="Arial"/>
              </a:rPr>
              <a:t>جمهو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مستشار الأكاديمي (</a:t>
            </a:r>
            <a:r>
              <a:rPr b="1" lang="ar-IQ" sz="2800" spc="-1" strike="noStrike">
                <a:solidFill>
                  <a:srgbClr val="29ffff"/>
                </a:solidFill>
                <a:latin typeface="Arial"/>
              </a:rPr>
              <a:t>المشرف</a:t>
            </a: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) واللجنة العلمية المختص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bd04969_"/>
          <p:cNvPicPr/>
          <p:nvPr/>
        </p:nvPicPr>
        <p:blipFill>
          <a:blip r:embed="rId1"/>
          <a:stretch/>
        </p:blipFill>
        <p:spPr>
          <a:xfrm>
            <a:off x="196920" y="5419800"/>
            <a:ext cx="1555560" cy="1438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586640" y="0"/>
            <a:ext cx="1557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fffff"/>
                </a:solidFill>
                <a:latin typeface="Arial"/>
              </a:rPr>
              <a:t>كتابة مقترح العمل والقلق : نصيحة عا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إنشاء جدول الكتاب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اكتب بحرية تامة دون قيو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الحفاظ على دفتر صغير معك لكتابة الأفكار ذات الصلة بموضوع البح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احتفظ بأجزاء من كتابتك بجهاز التسجي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احتفظ باكثر من نسخة على جهاز الكومبيوتر و اجهزة الخزن المختلف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ffff"/>
                </a:solidFill>
                <a:latin typeface="Arial"/>
              </a:rPr>
              <a:t>ابدأ بالفصول التي تكون واضحه لديك اولا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j0399575"/>
          <p:cNvPicPr/>
          <p:nvPr/>
        </p:nvPicPr>
        <p:blipFill>
          <a:blip r:embed="rId1"/>
          <a:stretch/>
        </p:blipFill>
        <p:spPr>
          <a:xfrm>
            <a:off x="1447920" y="1523880"/>
            <a:ext cx="1404720" cy="1757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543800" y="-152280"/>
            <a:ext cx="159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fffff"/>
                </a:solidFill>
                <a:latin typeface="Arial"/>
              </a:rPr>
              <a:t>كتابة مقترح العمل والقلق : نصيحة عا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فهم أن مقترح العمل سوف يتم مناقشته - تكون على استعداد للمراجع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فكر في المقترح كمقدمة لأطروحت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تذكر أن المقترح ليس عقدا ملزما غير قابل للتغي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تذكر أن المقترح لا يقتصر على عدد محدد من الأفكار، ولكن لمساعدتك على التفكير عم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سأل الزملاء لتشكيل مجموعة الكتاب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ff"/>
                </a:solidFill>
                <a:latin typeface="Arial"/>
              </a:rPr>
              <a:t>التحدث مع المشرف عن خطوات العم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j0414033"/>
          <p:cNvPicPr/>
          <p:nvPr/>
        </p:nvPicPr>
        <p:blipFill>
          <a:blip r:embed="rId1"/>
          <a:stretch/>
        </p:blipFill>
        <p:spPr>
          <a:xfrm>
            <a:off x="228600" y="2895480"/>
            <a:ext cx="13842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rcRect l="13193" t="27173" r="75002" b="53071"/>
          <a:stretch/>
        </p:blipFill>
        <p:spPr>
          <a:xfrm>
            <a:off x="7924680" y="36360"/>
            <a:ext cx="11844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8:58:58Z</dcterms:created>
  <dc:creator>Rosalyn</dc:creator>
  <dc:description/>
  <dc:language>en-US</dc:language>
  <cp:lastModifiedBy>DR.Ahmed Saker 2o1O</cp:lastModifiedBy>
  <dcterms:modified xsi:type="dcterms:W3CDTF">2017-11-22T03:36:24Z</dcterms:modified>
  <cp:revision>180</cp:revision>
  <dc:subject/>
  <dc:title>Writing Thesis and Dissertation Proposals</dc:title>
</cp:coreProperties>
</file>